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08CDA-5E64-4561-B5EB-BE062F0D72C1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99191-6618-4E68-AD1E-48184E4E847E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5600" y="620640"/>
            <a:ext cx="86058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30937"/>
                </a:solidFill>
                <a:latin typeface="Arial"/>
              </a:rPr>
              <a:t>Sistema eléctrico e painel de instrumentos</a:t>
            </a:r>
            <a:endParaRPr b="1" lang="en-US" sz="4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3876840" cy="311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4716360" y="2878200"/>
            <a:ext cx="4314960" cy="3209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76320" y="1628640"/>
            <a:ext cx="9042120" cy="4108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79200" y="1484280"/>
            <a:ext cx="8813880" cy="4549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2349360"/>
            <a:ext cx="4162320" cy="315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959360" y="2349360"/>
            <a:ext cx="4076640" cy="3105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04840" y="1197000"/>
            <a:ext cx="854388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rodutores ou geradores de corrent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0920" y="220464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tege-lo com um saco de plástico sempre que se lava o trac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a folga da correia da ventoinha semanalmente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o estado de desgaste das escovas de seis em seis mese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Lubrificar o rolamento com duas pingas de óleo quando se muda o óleo do mo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esliga-lo sempre que forem fazer soldaduras a electr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sumidores de corrente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000" y="213372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tege-lo com um saco plástico sempre que se lava o trac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periodicamente os seus componente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se deve accionar o motor de arranque com o motor em funcionament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se deve accionar o motor de arranque mais do que 10 segundos para evitar sobreaquecimento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Logo que o motor inicie o seu funcionamento devemos deixar a chave de ignição ou interruptor para evitar avari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Acumuladores de corrente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198864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analmente verificar o nível de electrólito nos vasos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analmente verificar o estado dos bornes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analmente verificar o orifício de respiro dos vasos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periodicamente o estado de carga da bateri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fumar ou foguear próximo da bateria, principalmente quando está em carg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retirar ou introduzir os terminais nos bornes da bateria á pancad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Acumuladores de corrente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000" y="155736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vitar grandes inclinações para que não haja derrame de líquid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Não colocar objectos metálicos sobre a bateria pois em contacto com os bornes pode provocar curto-circuit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ante-la sempre bem fixa ao tractor, pois a trepidação pode provocar fissur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empre que a caixa de ebonite estiver suja, lava-lá com água e sabão e depois seca-l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m tempo frio evitar que a bateria fique com pouca carga pois exige-se mais esforço da bateria nos arranques, sendo estes mais difícei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úvidas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istema eléctrico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dutores de Energia (dínamo e alternador)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sumidores de Energia (motor de arranque e luzes..)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•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cumuladores de Energia (bateria)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976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istinguir: voltagem, intensidade e resistência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5" name="Picture 2" descr="C:\FORMAÇÃO PROFISSIONAL\Imagens de Apoio\Cores\Electrico\Volagem - Amperagem - Resistencia.jpg"/>
          <p:cNvPicPr/>
          <p:nvPr/>
        </p:nvPicPr>
        <p:blipFill>
          <a:blip r:embed="rId1"/>
          <a:srcRect l="9175" t="11061" r="5386" b="16350"/>
          <a:stretch/>
        </p:blipFill>
        <p:spPr>
          <a:xfrm>
            <a:off x="971640" y="1700280"/>
            <a:ext cx="7488000" cy="4630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611280" y="2374920"/>
            <a:ext cx="8297640" cy="4078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3995640" y="44280"/>
            <a:ext cx="3657600" cy="2162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826920" y="785880"/>
            <a:ext cx="6624720" cy="34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0" y="4248000"/>
            <a:ext cx="4962600" cy="26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6645240" y="4221000"/>
            <a:ext cx="2463840" cy="2202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66760" y="1484280"/>
            <a:ext cx="876924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sumidores de Energia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otor de arranque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uzin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las de aqueciment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stema de Iluminação,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508720" y="907920"/>
            <a:ext cx="2941560" cy="240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7093080" y="4635360"/>
            <a:ext cx="1603080" cy="1668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Resultado de imagem para buzina trator"/>
          <p:cNvPicPr/>
          <p:nvPr/>
        </p:nvPicPr>
        <p:blipFill>
          <a:blip r:embed="rId3"/>
          <a:stretch/>
        </p:blipFill>
        <p:spPr>
          <a:xfrm>
            <a:off x="684360" y="4221000"/>
            <a:ext cx="2076480" cy="2079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Resultado de imagem para velas de aquecimento trator"/>
          <p:cNvPicPr/>
          <p:nvPr/>
        </p:nvPicPr>
        <p:blipFill>
          <a:blip r:embed="rId4"/>
          <a:stretch/>
        </p:blipFill>
        <p:spPr>
          <a:xfrm>
            <a:off x="3708360" y="4902120"/>
            <a:ext cx="238140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225360" y="2997360"/>
            <a:ext cx="8944200" cy="367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3276720" y="-27000"/>
            <a:ext cx="4124160" cy="32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429760" cy="435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ítor Figueiredo</cp:lastModifiedBy>
  <cp:lastPrinted>2017-03-22T19:12:34Z</cp:lastPrinted>
  <dcterms:modified xsi:type="dcterms:W3CDTF">2017-03-29T22:58:30Z</dcterms:modified>
  <cp:revision>407</cp:revision>
  <dc:subject/>
  <dc:title>Slide 1</dc:title>
</cp:coreProperties>
</file>